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EC20-ADAB-4F63-A754-FA6811CA8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d signal is ideal, so in order to match the timing of the two signals, the SE signal is delayed so the data from the BL/BLB is ready to be accepted by the Sense 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3C41-513A-44CD-B2A6-A7EFD844B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35C-5C23-447E-8AAA-A533780A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241-5480-4A60-8A5C-567E85D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83-1A4A-4DF6-B0A3-6C4F7DF0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71F-C66F-4602-A95C-3C03253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1CE-26A6-49B2-9454-515EAF17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EA0-02E3-45E5-9868-F7BAA409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8BA9-1E15-4518-B0EE-515F508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7AD-8181-4010-B513-A6BD820A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B0E-1260-4935-9D3F-D59106E9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C91-9A7C-4403-A509-5D967A2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F5E3-DCEB-41E2-AB48-C2AB3DE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04C-D8DA-41D2-B84D-6A2A818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1751-C82F-46E9-A7F0-D2E4FDE7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7D87-B56E-45C4-A510-9DDD613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2D1-32BE-4522-BA79-DA37A4F7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4894-D677-4968-8DFC-D8556023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1FCB-35EE-4A75-90EC-1F14DE78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F3927-67C5-4B7E-81AE-B4C5213E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916CE-EBFC-497B-82B9-03C05E8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2C0B8-C239-4C4C-BF48-76F8358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418A0-12BA-4F9D-8490-18C3977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B61D3-5C51-41F4-9279-58B0CED7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FD9-9FA5-435A-B13D-67C0A6C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DCF01-AE03-4D90-B9AF-F38A2E4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FFBC5-AA6A-4404-9501-7BF8461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D8BC2-C822-43E1-AF67-C6209BD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7829D-8851-483A-B5B4-3154AB6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381A4-08FC-48C0-B3A6-0B004EFA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D3168-39DC-410F-8BDC-2DFDE3A6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750EB-EC00-4BF7-98D9-304424DB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916E-5807-4615-A54B-4BFE9B6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9CA3-1065-4C6D-9B8A-6E3C8245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1204-CE8B-46EB-8E09-C4587498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39E-2FBF-4317-952E-E325FCD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3F31-46B3-482E-8061-C060EAB4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BE92-FFCD-4829-9981-83F936A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E5E6-601F-40BE-991C-D14715B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2AA7-7A30-487F-8344-D6D119A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CCAC-6A67-4F68-AD1F-1719416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9E51-C075-47A4-9413-60F7662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C4B7-18F1-4E58-A558-FA7A99A7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8B41-701C-4D27-86DC-453838D0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F6A4-3D9A-4CB3-8C6E-16B29B7B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0BCC5-39E2-4612-8123-F0EE4216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337-8ED8-4B46-A3A8-34E42E8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EF53A-D98A-4CCD-9625-D2C609B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3980F-C310-4C07-ADC4-A35B0EE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47C84-6777-4D49-A3C3-E07C0BE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F4E1E-C721-430F-9FCA-EF73D09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11D00-FEF5-499C-8737-4529677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014AA-DC53-44DB-A9D0-8349444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29519-B426-466B-A74D-FA9DD88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A1E44-2871-4657-8121-BD02B49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9D84D-812D-47A0-A381-C76720D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0404D-2D3D-431C-A192-E0197582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41F-FC60-4884-9EA9-9DEA4A7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0E58D-950E-43F0-BD2A-F9973AAB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9BE76-6651-4FD1-B474-B38A0E61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50F6A-C8CB-4D1D-8EA2-238228E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57846-6AB0-4B1B-A8BE-719B14D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3EEA4-898F-4469-81B7-676AC9D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B92EE-5CCB-4A71-99A2-2D59C21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C0C99-508B-489C-B174-1D2E3D1D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79E73-95DE-42EE-9873-02039F9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FF28F-4E96-4B53-82CE-604F4CA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4C512-3CD7-4130-96D4-A8C6130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ADF-AA91-42FD-9D37-1D55FD0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9F9C4-F068-4EDC-A3EA-07621267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13BC2-9D5E-4A66-B558-0137B28B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0A2F5-59E4-4EB0-AD91-A6149F40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E29BD-B762-45C5-AF7B-4EA33149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E8AE8-CDED-4392-912E-F47E88E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A6CFF-B6FC-4B64-BF3E-1AA15179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27D12-DC7E-4FAD-AFB5-F0A5627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4363D-A2C3-40C7-80C9-9B52FC8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B606D-9B2A-4307-91F4-F9F32B9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B59DC-7778-406D-8D78-07BFD65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001-8179-4C5F-842F-52D25AE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15CEB-17F6-4D88-8139-50F81CC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01F81-0C00-4409-B1DF-F1AAA28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359F7-5AAC-429D-8CE3-82CF37E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B9EE3-D381-4E90-AD3D-70FABCDB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6D9F0-9C99-4615-9A67-C4469E3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F93-D9D9-458F-8BF9-0B83918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88E-4D87-472F-8820-437424F3E4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581-17C1-4D06-81D7-9AAFED191D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BC5-EFEE-4E4B-B512-6E5020CAD5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6345-1D78-498A-B1EC-487095D82D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854-5D50-405A-8D30-4EFE669B97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C21-477D-4902-B31D-CC2D635182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DF5-FE1E-4DD3-99D6-0429A97FF4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200040"/>
            <a:ext cx="617220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IGNING A LOW POWER SRAM FOR P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CE4332 : Team 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arif Morad, Maxwell Martin, Jaleesa Boykin, Marc H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ecember 2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7432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V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LS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 ~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Benton Calhoun, August 2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RTHER OPTIMIZA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er VD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5V to 2.5V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Clock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ratio width of pre-charge transistors to data write transis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ck signal buff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d FO4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Y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past de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d methods to save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rro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nimum sized ga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12292" t="12681" r="5951" b="8186"/>
          <a:stretch/>
        </p:blipFill>
        <p:spPr>
          <a:xfrm>
            <a:off x="4060800" y="1143000"/>
            <a:ext cx="4492800" cy="3505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rcRect l="0" t="0" r="11113" b="10527"/>
          <a:stretch/>
        </p:blipFill>
        <p:spPr>
          <a:xfrm>
            <a:off x="533520" y="4267080"/>
            <a:ext cx="3225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UL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ed model of entire arr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racted bit line and word line R/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sed on layout lengths/widt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sted and verified functionality 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cess corners (TT, FF, SS, SF, F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 voltages (2.5V, 5V, 5.5V, 4.5V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mperature (50C, 27C, 0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2590920" y="838080"/>
            <a:ext cx="3581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rite 1, Read 1, Write 0 at TT, 2.5V (nominal), 27°C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533520" y="151596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R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~68.916m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2.18ns (worst case delay for rea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Are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pproximately .524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 Metric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79633.8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m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LLE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deoff deci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ch knobs to turn and amount of sensi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ring/Layo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ook a long time, changing design was difficul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KILL may have help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gnitude of SR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oubleshooting Cad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cking to schedule/time constra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rver cras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09680" y="2437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SIGN GO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 metric for low power 1Mb S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Total Power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* Delay * Area  = (m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32 bit word size for read or wri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puts: Address bits, data in, read, write, CL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tputs: data 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ity at all process corners with various temper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RAY ARCHITE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308560" cy="4000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8088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 bloc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8 words/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56 x 256 bit cells per 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Pre-char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s/BLB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e A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T CE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 xtor bit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culations and vigorous testing to minimize wid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CO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Selec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 and Del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coder Enable Sel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48080" cy="2550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667240" cy="1947600"/>
          </a:xfrm>
          <a:prstGeom prst="rect">
            <a:avLst/>
          </a:prstGeom>
          <a:ln w="0">
            <a:noFill/>
          </a:ln>
        </p:spPr>
      </p:pic>
      <p:cxnSp>
        <p:nvCxnSpPr>
          <p:cNvPr id="373" name="Elbow Connector 8"/>
          <p:cNvCxnSpPr/>
          <p:nvPr/>
        </p:nvCxnSpPr>
        <p:spPr>
          <a:xfrm flipV="1" rot="16200000">
            <a:off x="5218920" y="4533120"/>
            <a:ext cx="1524600" cy="686520"/>
          </a:xfrm>
          <a:prstGeom prst="bentConnector3">
            <a:avLst>
              <a:gd name="adj1" fmla="val 6979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Elbow Connector 11"/>
          <p:cNvCxnSpPr/>
          <p:nvPr/>
        </p:nvCxnSpPr>
        <p:spPr>
          <a:xfrm flipH="1" flipV="1" rot="5400000">
            <a:off x="5142240" y="3999960"/>
            <a:ext cx="991440" cy="396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Elbow Connector 37"/>
          <p:cNvCxnSpPr/>
          <p:nvPr/>
        </p:nvCxnSpPr>
        <p:spPr>
          <a:xfrm flipH="1" flipV="1" rot="5400000">
            <a:off x="6095520" y="5410440"/>
            <a:ext cx="456480" cy="396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Straight Arrow Connector 39"/>
          <p:cNvCxnSpPr/>
          <p:nvPr/>
        </p:nvCxnSpPr>
        <p:spPr>
          <a:xfrm flipV="1">
            <a:off x="6321960" y="4039560"/>
            <a:ext cx="39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35161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8" name="Elbow Connector 46"/>
          <p:cNvCxnSpPr/>
          <p:nvPr/>
        </p:nvCxnSpPr>
        <p:spPr>
          <a:xfrm flipH="1" flipV="1" rot="5400000">
            <a:off x="4113720" y="3199680"/>
            <a:ext cx="1981800" cy="762840"/>
          </a:xfrm>
          <a:prstGeom prst="bentConnector3">
            <a:avLst>
              <a:gd name="adj1" fmla="val 9291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9" name="Straight Connector 52"/>
          <p:cNvSpPr/>
          <p:nvPr/>
        </p:nvSpPr>
        <p:spPr>
          <a:xfrm flipH="1">
            <a:off x="3809880" y="457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Straight Arrow Connector 61"/>
          <p:cNvCxnSpPr/>
          <p:nvPr/>
        </p:nvCxnSpPr>
        <p:spPr>
          <a:xfrm flipV="1">
            <a:off x="6323040" y="3504960"/>
            <a:ext cx="2160" cy="129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AC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Xing only column blocks saves 32256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562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E AMPLIFI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Sense Amps/block colum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35712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ed SE signal    to wait for BL/BLB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3524400" y="2057400"/>
            <a:ext cx="516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CHARGE BLO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447560"/>
            <a:ext cx="3809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/BLB sh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require 4 pre-charge blocks as opposed to 16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pre-ch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 Select Sig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s CLK signal 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2182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13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R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327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xtors for only block colum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umn Block Sele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72600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211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06:42Z</dcterms:created>
  <dc:creator>lcuser</dc:creator>
  <dc:description/>
  <dc:language>en-US</dc:language>
  <cp:lastModifiedBy>lcuser</cp:lastModifiedBy>
  <dcterms:modified xsi:type="dcterms:W3CDTF">2009-12-01T03:31:30Z</dcterms:modified>
  <cp:revision>16</cp:revision>
  <dc:subject/>
  <dc:title>Designing a Low Power SRAM for PICo </dc:title>
</cp:coreProperties>
</file>